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33D4-12FF-4F97-AC02-1C469A83F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392C-D8E9-4054-9BF1-0B627B16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745C-92F3-4B7A-AEDA-C56758666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2982-5465-4543-927C-2F2E8A3B6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6261-A361-443E-A8C2-9E866AF9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34F2-1522-4ADE-9A6D-06FAD9B9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A331-FD90-480C-9943-56EDCDE7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04C2-3CA1-4731-BB78-890F3D92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AC2F-D581-45E7-8DD6-2419649E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EC27-29D8-4F19-88B3-9D6BDA56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4CD2-5FF1-403B-9DC6-AB84F700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7607-FEA7-41BF-8B18-F37C705C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9256-A253-4662-BE80-69C6415D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6593-9CE5-4CBA-9124-EA6049A9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B284-45DF-4FFC-939B-B8BA7868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1B73-D1EF-470B-8983-502D3B681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E0A8-E628-4AA7-86D3-AF1636EF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951D-BB38-42E7-AB98-A47CD1D4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4224-06FE-4654-9F29-AB651EE1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E97E-D4AF-4405-AAB0-DC6FE4F2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1B9F-97B7-4563-BFD2-4F8628FE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C08A-4B50-41F2-B8B0-A440AC70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8993-75BB-4392-8EDF-7D3BC10D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B0F6-7464-40AD-96C9-184F0162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43E2-4058-49D5-87CA-9BD11D8ECFB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C6E8-DA3B-4C2B-A035-C2B9154043E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19542000"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Impact"/>
              </a:rPr>
              <a:t>Evangelizando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5" descr="Copy of Chile Union ChM Advisory 133"/>
          <p:cNvPicPr/>
          <p:nvPr/>
        </p:nvPicPr>
        <p:blipFill>
          <a:blip r:embed="rId1"/>
          <a:stretch/>
        </p:blipFill>
        <p:spPr>
          <a:xfrm>
            <a:off x="4716360" y="0"/>
            <a:ext cx="1752840" cy="117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hildren of the world"/>
          <p:cNvPicPr/>
          <p:nvPr/>
        </p:nvPicPr>
        <p:blipFill>
          <a:blip r:embed="rId2"/>
          <a:stretch/>
        </p:blipFill>
        <p:spPr>
          <a:xfrm rot="19542000">
            <a:off x="2000160" y="3259080"/>
            <a:ext cx="5867640" cy="696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FerreyraMe\Documents\diseños PP\LOGOS_ADVENTISTAS\LOGOS_DEPTO\MINISTÉRIO_CRIANÇA\logo_Trab_esp.jpg"/>
          <p:cNvPicPr/>
          <p:nvPr/>
        </p:nvPicPr>
        <p:blipFill>
          <a:blip r:embed="rId3"/>
          <a:stretch/>
        </p:blipFill>
        <p:spPr>
          <a:xfrm>
            <a:off x="34920" y="-27000"/>
            <a:ext cx="4681440" cy="1197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7872840" y="6397560"/>
            <a:ext cx="1221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. Ferrey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inisterio Personal - D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P-EI 00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25" name="9 - Cooperación.wmv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30" name="10 - Da una Sonrisa.wmv" descr=""/>
          <p:cNvPicPr/>
          <p:nvPr/>
        </p:nvPicPr>
        <p:blipFill>
          <a:blip r:embed="rId3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Requisi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ener un equipo de 2 a 6 personas capacit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Buscar un loc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lanear, organizar, preparar bien el programa par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cer una buena promoción</a:t>
            </a:r>
            <a:r>
              <a:rPr b="1" lang="es-PE" sz="3200" spc="-1" strike="noStrike">
                <a:solidFill>
                  <a:srgbClr val="0d0d0d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do visualizado o ilustr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articipación plena y continu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mar en cuenta la regla 1 x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Variedad, novedad, agilid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étodo directo e indirecto, cambiar apropiad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Uso de los cinco senti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7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óngale un nombre 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8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ucha or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9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Escoger el tema central y enfatizar cada día ese te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0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Decidir la extensión del progra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1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ga un programa Cristo céntrico y               Niño cént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 – La Clave Secret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 – Tem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Honradez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cortesí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servicio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Abnegación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verdad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Perdón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obedienci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- Carta de Dio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Fin de sema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Este modelo lo puede usar en coordinación con la escuela e invitar a los padres de famil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Historia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Conociendo al Autor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Carta de Dios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Mus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scoja un canto y sobre el maneje el temario para la seman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Trabajo en grupos…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Prepare un temario basado en el canto que acaba de escuch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11" name="LA SEMANA.mp3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gozo_culto_joe.mp3" descr=""/>
          <p:cNvPicPr/>
          <p:nvPr/>
        </p:nvPicPr>
        <p:blipFill>
          <a:blip r:embed="rId4"/>
          <a:stretch/>
        </p:blipFill>
        <p:spPr>
          <a:xfrm>
            <a:off x="485928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4101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9515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entro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oe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rquesta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Ri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Jueg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frend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odelito bíbli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nto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redican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Adivinanz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arch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 fuera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salu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limpie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Visita a un asi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606060"/>
                </a:solidFill>
                <a:latin typeface="Arial"/>
              </a:rPr>
              <a:t>La idea es que los niños participen de cualquier actividad que tenga que ver con la testificación y para que pierdan el miedo a la gente, hacerlos mas sociab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3:46:03Z</dcterms:created>
  <dc:creator>Melchor Ferreyra</dc:creator>
  <dc:description/>
  <dc:language>en-US</dc:language>
  <cp:lastModifiedBy>Melchor Ferreyra</cp:lastModifiedBy>
  <dcterms:modified xsi:type="dcterms:W3CDTF">2012-06-30T02:56:07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